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B530-D071-4615-AB25-14730568F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4D5E-95FF-4F91-B952-0D54D3291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7345-047D-4762-AC6F-621081DD6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A6DE-8223-4232-BA7A-79C402892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E020-0013-401C-8C47-4947C81EA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F67B-E3B1-46DC-A6FB-C31A77EFD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BB5F-1A54-4235-B1B9-497EC5A73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2ADE-5F4B-4BDB-B009-76E4F1593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B31A-F089-4616-9D3E-AC77FE16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CA89-2AE5-4510-829A-4189CC7A3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CEE8-0386-449F-9239-21759725B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45FC-3AA8-4965-9851-9FAB9FB5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FD7D-293C-4B71-A739-F7F3246AD22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REVISÃO DOS BENEFÍCIOS POR INCAPACIDADE DE LONGA DU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04040"/>
                </a:solidFill>
                <a:latin typeface="Arial"/>
                <a:ea typeface="Arial"/>
              </a:rPr>
              <a:t>MP nº 767/20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26436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  <a:ea typeface="Arial"/>
              </a:rPr>
              <a:t>Fevereiro/20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82760" y="2220840"/>
          <a:ext cx="8232480" cy="3467160"/>
        </p:xfrm>
        <a:graphic>
          <a:graphicData uri="http://schemas.openxmlformats.org/drawingml/2006/table">
            <a:tbl>
              <a:tblPr/>
              <a:tblGrid>
                <a:gridCol w="1060200"/>
                <a:gridCol w="1177920"/>
                <a:gridCol w="1341360"/>
                <a:gridCol w="1287720"/>
                <a:gridCol w="1457280"/>
                <a:gridCol w="1908000"/>
              </a:tblGrid>
              <a:tr h="674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3.5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 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7.9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8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7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9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8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71600" y="2371680"/>
          <a:ext cx="8210520" cy="3597480"/>
        </p:xfrm>
        <a:graphic>
          <a:graphicData uri="http://schemas.openxmlformats.org/drawingml/2006/table">
            <a:tbl>
              <a:tblPr/>
              <a:tblGrid>
                <a:gridCol w="1368360"/>
                <a:gridCol w="3457440"/>
                <a:gridCol w="3384720"/>
              </a:tblGrid>
              <a:tr h="1015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ção do Benefí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4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3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 9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.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a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.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5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de 15 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30200" y="2573280"/>
          <a:ext cx="8172360" cy="2382840"/>
        </p:xfrm>
        <a:graphic>
          <a:graphicData uri="http://schemas.openxmlformats.org/drawingml/2006/table">
            <a:tbl>
              <a:tblPr/>
              <a:tblGrid>
                <a:gridCol w="1546200"/>
                <a:gridCol w="2448000"/>
                <a:gridCol w="2089080"/>
                <a:gridCol w="2089080"/>
              </a:tblGrid>
              <a:tr h="833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 SEM PERÍ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 / Ano</a:t>
                      </a:r>
                      <a:br>
                        <a:rPr sz="1600"/>
                      </a:b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3x valor R$ JAN/17)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Benefícios  / Ano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93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-Doenç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9.794.218.343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38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24.948.233.856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9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1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6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34.742.452.199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2"/>
          <p:cNvSpPr/>
          <p:nvPr/>
        </p:nvSpPr>
        <p:spPr>
          <a:xfrm>
            <a:off x="431640" y="5111640"/>
            <a:ext cx="8229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¹ o valor mínimo dos benefícios pagos pelo INSS – aposentadorias, auxílio-doença, pensão por morte –, das aposentadorias dos aeronautas e das pensões especiais pagas às vítimas da síndrome da talidomida será de R$ 937,00. Os segurados da Previdência Social que recebem acima do salário mínimo terão o benefício reajustado em 6,58%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43520" y="5478480"/>
            <a:ext cx="474048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alor Médio por Benefício/Mê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421  para Auxílio-Doenç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77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1.632  para Aposentadoria por Invali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UXÍLIO-DOENÇ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38120" y="2279520"/>
          <a:ext cx="8231040" cy="3422880"/>
        </p:xfrm>
        <a:graphic>
          <a:graphicData uri="http://schemas.openxmlformats.org/drawingml/2006/table">
            <a:tbl>
              <a:tblPr/>
              <a:tblGrid>
                <a:gridCol w="1135080"/>
                <a:gridCol w="1114560"/>
                <a:gridCol w="1272960"/>
                <a:gridCol w="1287720"/>
                <a:gridCol w="1547640"/>
                <a:gridCol w="1873080"/>
              </a:tblGrid>
              <a:tr h="822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dddddd"/>
                      </a:solidFill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(Estimativa IBGE 201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720">
                      <a:solidFill>
                        <a:srgbClr val="dddddd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.5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5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8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47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7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1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62"/>
          <p:cNvSpPr/>
          <p:nvPr/>
        </p:nvSpPr>
        <p:spPr>
          <a:xfrm>
            <a:off x="360000" y="575928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12524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APOSENTADORIAS POR INVALIDE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82320" y="607860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77720" y="2359080"/>
          <a:ext cx="8229600" cy="3508200"/>
        </p:xfrm>
        <a:graphic>
          <a:graphicData uri="http://schemas.openxmlformats.org/drawingml/2006/table">
            <a:tbl>
              <a:tblPr/>
              <a:tblGrid>
                <a:gridCol w="1074960"/>
                <a:gridCol w="1146240"/>
                <a:gridCol w="1433520"/>
                <a:gridCol w="1326960"/>
                <a:gridCol w="1468440"/>
                <a:gridCol w="1779480"/>
              </a:tblGrid>
              <a:tr h="90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o Total de Benefícios mantidos há mais de 2 anos* SEM PERÍ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ulação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População da Região em relação à População Total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Estimativa IBGE 2016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SEM PERÍCIA em relação à população total da regiã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.0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434.7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.0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6.9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-O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660.9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d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915.9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6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3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707.7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076.4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OPERACIONALIZ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1428840" y="2637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operacionalização do programa BILD (MP 767) está sendo realizada seguindo um fluxo linear que se inicia com a análise da capacidade de operação de cada agência. Mensurado a quantidade do atendimento por local, são emitidas cartas com convocações e configuradas as agendas de atendimento nas unidade presenciais. O segurado é orientado para realizar o agendamento por meio do canal remoto Central 135. Iniciada a operação em 13/01/20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a 5" descr=""/>
          <p:cNvPicPr/>
          <p:nvPr/>
        </p:nvPicPr>
        <p:blipFill>
          <a:blip r:embed="rId3"/>
          <a:stretch/>
        </p:blipFill>
        <p:spPr>
          <a:xfrm>
            <a:off x="676440" y="853920"/>
            <a:ext cx="829152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9" descr=""/>
          <p:cNvPicPr/>
          <p:nvPr/>
        </p:nvPicPr>
        <p:blipFill>
          <a:blip r:embed="rId3"/>
          <a:stretch/>
        </p:blipFill>
        <p:spPr>
          <a:xfrm>
            <a:off x="247680" y="1295280"/>
            <a:ext cx="8648640" cy="47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3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46160" y="1830240"/>
            <a:ext cx="692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7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6" descr=""/>
          <p:cNvPicPr/>
          <p:nvPr/>
        </p:nvPicPr>
        <p:blipFill>
          <a:blip r:embed="rId3"/>
          <a:stretch/>
        </p:blipFill>
        <p:spPr>
          <a:xfrm>
            <a:off x="0" y="106200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71640" y="2349360"/>
            <a:ext cx="720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69880" indent="-569880">
              <a:buClr>
                <a:srgbClr val="191966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MP nº 7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</a:t>
            </a: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de 06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°09/MDSA/MF/MP</a:t>
            </a:r>
            <a:r>
              <a:rPr b="0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Resolução nº 567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3/01/201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569880"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, de 12/01/201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69880" indent="-569880">
              <a:tabLst>
                <a:tab algn="l" pos="0"/>
                <a:tab algn="l" pos="56988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5536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71640" y="126828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NOR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971640" y="2349360"/>
            <a:ext cx="7200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00000" y="2487600"/>
            <a:ext cx="7201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Arial"/>
              </a:rPr>
              <a:t>Obrigado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Leonardo de Melo Gade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Arial"/>
              </a:rPr>
              <a:t>Presidente do IN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971640" y="2349360"/>
            <a:ext cx="72007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ata de publicação: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06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Escopo: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promover a revisão dos benefícios por incapacidade, de forma a averiguar-se a permanência da incapacidade laborativa dos beneficiários, com vistas a interrupção de possíveis pagamentos indevidos de benefícios conforme art. 59 da Lei nº 8.213/91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262160"/>
            <a:ext cx="8353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MEDIDA PROVISÓRIA Nº 767/201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enefícios por incapacidade mantidos há mais de dois anos, sem realização de perícia médica no período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posentados por invalidez com idade inferior a 60 anos de idade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971640" y="2276640"/>
            <a:ext cx="720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1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rioridades de convocaçã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a. Auxílio-doença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b. Aposentadoria por invalidez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everão ser convocados, prioritariamente, os beneficiários com menor idade e com benefícios mantidos há mais tem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Interministerial nº 09/MDSA/MF/MP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de 13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As perícias de revisão serão realizadas por médicos peritos que aderirem ao programa, sem prejuízo ao atendimento da demanda ordinária do serviço médico-pericial das unidades do IN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Haverá pagamento de bônus ao médico perito referente à realização de cada perícia extraordiná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969840" y="231156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20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Estabelece fluxo de revisão dos BILDs concedidos judi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Não será cabível alteração de datas técnicas decorrentes do processo judicial (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ata do início da incapacidade, da doença ou do benefíci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O INSS poderá regulamentar a fixação de tais datas quando não constarem em seus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69840" y="2179800"/>
            <a:ext cx="7202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404040"/>
                </a:solidFill>
                <a:latin typeface="Arial"/>
                <a:ea typeface="Arial"/>
              </a:rPr>
              <a:t>Portaria Conjunta nº 01/INSS/PGF, de 12/01/17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Nos casos em que ficar constatada a ausência da incapacidade laboral o benefício será cessado sem necessidade de manifestação prévia ou posterior do órgão de execução da PG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1919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Lei 8213/91: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inda que concedidos judicialmente, os benefícios estão submetidos às regras de manutenção administrativas do IN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71640" y="12794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REGULAMENT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268280"/>
            <a:ext cx="8064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514440" indent="-511200" algn="just">
              <a:tabLst>
                <a:tab algn="l" pos="0"/>
                <a:tab algn="l" pos="38160"/>
                <a:tab algn="l" pos="51444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30600"/>
                <a:tab algn="l" pos="5038560"/>
                <a:tab algn="l" pos="553392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8800"/>
                <a:tab algn="l" pos="100299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71640" y="1252440"/>
            <a:ext cx="720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Arial"/>
                <a:ea typeface="Arial"/>
              </a:rPr>
              <a:t>QUANTIDADE DE BENEFÍ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50880" y="2238480"/>
          <a:ext cx="7947000" cy="3389040"/>
        </p:xfrm>
        <a:graphic>
          <a:graphicData uri="http://schemas.openxmlformats.org/drawingml/2006/table">
            <a:tbl>
              <a:tblPr/>
              <a:tblGrid>
                <a:gridCol w="1800360"/>
                <a:gridCol w="1935000"/>
                <a:gridCol w="2046240"/>
                <a:gridCol w="2165400"/>
              </a:tblGrid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pécie do Benefício por Incapacida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e Benefícios mantidos há mais de 2 anos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 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Benefícios mantidos há mais de 2 anos*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M PERÍCIA após 06/01/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xílio Doenç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.2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.1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 -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65.5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5.9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105.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06.1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1,0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ria por Invalidez (+ de 60 an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83.8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sentados por Invalidez com mais de 60 anos de idade não serão convocado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89.6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36"/>
          <p:cNvSpPr/>
          <p:nvPr/>
        </p:nvSpPr>
        <p:spPr>
          <a:xfrm>
            <a:off x="647280" y="5934240"/>
            <a:ext cx="34329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alibri"/>
              </a:rPr>
              <a:t>*Data de Início do Benefício (DIB) anterior a 06/01/2015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Israel de Brito Silva - MPS</cp:lastModifiedBy>
  <cp:lastPrinted>2017-02-16T11:24:05Z</cp:lastPrinted>
  <dcterms:modified xsi:type="dcterms:W3CDTF">2017-02-16T11:43:08Z</dcterms:modified>
  <cp:revision>78</cp:revision>
  <dc:subject/>
  <dc:title>Slide 1</dc:title>
</cp:coreProperties>
</file>